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30B-ED26-44EB-87AF-214882FE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76D-5BE5-4284-BE84-677F7773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FF4-2A4E-4DFA-98DD-CA3A716E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CA7-2757-4EAC-BDDB-5C29D203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9AC0-65AD-46A4-A47B-B4C6F0BB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A53E-F78B-4322-A398-E6F4179F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3714-CC5D-459E-98C5-50F568D5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5FC8-9B2B-4D91-936B-D66093F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1E0D-5167-4FAE-ADA7-DCAA70A9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6AE9-ABEF-4BF0-89C7-476D059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C6C2-3041-48D4-8762-374B2151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DC1-DCD1-4EF0-9CBF-B00EE1B9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A9D8-EA19-42CB-9D53-06179B79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35E5-2A08-463F-BE87-08AC6A04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D0B5-F57A-480E-BAEC-2D0A8700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B5F7-450B-4BDC-B404-A676EC12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181A-5ED9-4049-A144-C216C8AB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112-F1C9-45A0-81AC-BA3835CA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426-32DB-4D0A-A847-D94F30D0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015-D342-4234-B11D-4BAAD853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76E-AF62-4B62-AC83-3EB90B91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AE2-95CF-4C9B-995E-B50939F2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1B5-DAEA-4587-B66C-E209173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701-C62E-4022-BB2E-252AE58F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7563-909E-40C0-B81B-BFCCFBEC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1E39-7C03-4CDC-920A-3770F0376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s and Capitals IIII – 11 Weste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’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y A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ondering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he didn’t get any chip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eform 6"/>
          <p:cNvSpPr/>
          <p:nvPr/>
        </p:nvSpPr>
        <p:spPr>
          <a:xfrm rot="394200">
            <a:off x="2589120" y="2357280"/>
            <a:ext cx="841320" cy="8384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yoming, Cheyen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on’t need to ad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your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6"/>
          <p:cNvSpPr/>
          <p:nvPr/>
        </p:nvSpPr>
        <p:spPr>
          <a:xfrm rot="394200">
            <a:off x="2142720" y="2657520"/>
            <a:ext cx="762120" cy="10666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ah, Salt Lak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ado, Den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2590920" y="297180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zona, Phoen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 rot="967200">
            <a:off x="2133360" y="33523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ing down the chimney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6"/>
          <p:cNvSpPr/>
          <p:nvPr/>
        </p:nvSpPr>
        <p:spPr>
          <a:xfrm rot="967200">
            <a:off x="2666520" y="3352320"/>
            <a:ext cx="83844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Mexico, Santa 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park you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s in th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Freeform 6"/>
          <p:cNvSpPr/>
          <p:nvPr/>
        </p:nvSpPr>
        <p:spPr>
          <a:xfrm rot="967200">
            <a:off x="1599840" y="26665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1371600" y="3505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33520" y="3809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hiel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vada, Ca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 carrie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n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round for his bad bre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6"/>
          <p:cNvSpPr/>
          <p:nvPr/>
        </p:nvSpPr>
        <p:spPr>
          <a:xfrm rot="967200">
            <a:off x="1039320" y="2708280"/>
            <a:ext cx="1155960" cy="1359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ifornia, Sacr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k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the oc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6"/>
          <p:cNvSpPr/>
          <p:nvPr/>
        </p:nvSpPr>
        <p:spPr>
          <a:xfrm rot="967200">
            <a:off x="1219320" y="205740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egon, Sa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hing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oking his pipe watch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lymp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6"/>
          <p:cNvSpPr/>
          <p:nvPr/>
        </p:nvSpPr>
        <p:spPr>
          <a:xfrm rot="967200">
            <a:off x="1295280" y="167652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shington, Olymp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d to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he potatoes to make their favorite chips –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6"/>
          <p:cNvSpPr/>
          <p:nvPr/>
        </p:nvSpPr>
        <p:spPr>
          <a:xfrm rot="394200">
            <a:off x="1965240" y="1755720"/>
            <a:ext cx="776520" cy="1219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aho, Bo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wif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ting the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2057400" y="1752480"/>
            <a:ext cx="1447920" cy="9144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ana, Hel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1-01T12:33:13Z</dcterms:modified>
  <cp:revision>21</cp:revision>
  <dc:subject/>
  <dc:title>United States</dc:title>
</cp:coreProperties>
</file>